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532-2167-4C02-A0DA-6001DC43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B07-E469-4F02-B604-33FBFAC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871-FA80-42AE-978C-059854C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090-230A-4B57-8514-793F8C99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748-96F5-4F47-A966-6A634E1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CBAA-4D0F-4182-AA05-04DEB68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9D4-31BF-4A08-8A74-A0F3B1B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B096-92C5-48E6-9C3E-3EB8D3C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204-7666-406E-81F1-8334803B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2A2B-1551-4D97-A670-E85DE1A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B75-FA83-48B0-A448-C66346F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310-802B-4008-89A6-FEEEAD61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E64-B468-4C4E-A027-C0EF619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8578-481A-4011-8827-8B528EF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3562-6128-4B1A-AE76-7957468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F34F-EE6F-4B72-958C-1B5D744B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E49-CEC1-4E8A-9C8E-9974761B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084-D121-4CA5-A1BD-E7C6E499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463-3B3C-4F81-91C6-1C0FAEB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389-AD94-4B1C-990D-5543AB93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04-24DB-4258-B693-4DE666F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BC-0F82-44D3-AF8A-841406B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66B-E7C8-4020-AB4E-2501022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4B9-CE75-4B06-8C21-245BF77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5A1-23FF-4CA8-BF37-9CD9A38FDC3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A8C-7365-4369-9A62-71D286E6F9B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i Vacacion a Portillo, Chil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y Colin Du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867280" cy="4202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4496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rimer d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16436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Quierido Alejand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ui a Chile con mi amigo Nick. En el primer dia, hace buen tiempo. El sol brilla en el cielo. Hace un poco frio. Yo fui a la piscina de la hotel. Yo lle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è un traje de baño para nadar.Estoy en el hotel Tierra Atacama. El hotel es muy bonita y grande. Hay cuatro piscinas. Yo comprè un anorak a la tienda porque lo necesito para esquiar mañan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Bes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l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320" y="4114800"/>
            <a:ext cx="4190760" cy="285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5638680" y="0"/>
            <a:ext cx="14940000" cy="7248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7829640" cy="521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810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6a6a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fa6a6a"/>
                </a:solidFill>
                <a:latin typeface="Arial"/>
                <a:ea typeface="Arial"/>
              </a:rPr>
              <a:t>í</a:t>
            </a:r>
            <a:r>
              <a:rPr b="0" lang="en-US" sz="3600" spc="-1" strike="noStrike">
                <a:solidFill>
                  <a:srgbClr val="fa6a6a"/>
                </a:solidFill>
                <a:latin typeface="Arial"/>
              </a:rPr>
              <a:t>a Do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9051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143000"/>
            <a:ext cx="71625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erido Alejandr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y, hace frio y hace sol. Yo fui esqu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uera de un heli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tero hoy. Me gusta. Yo lle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é un anorak, dos guantes, pantalones, y una gorra. Yo subé la pista para expertos. No subé la pista pricipiante. Despues de esquí, yo compré nuevos bastones y esquís. Yo nadé en la piscina de nuevo. Esta noche, comé a la ristorante Tio Bob’s. Tio Bob’s esta en la montaña. La pollo y todo de la comida fui muy bie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brazos y Besos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lin Dun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45720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09680" y="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707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bd0707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bd0707"/>
                </a:solidFill>
                <a:latin typeface="Arial"/>
              </a:rPr>
              <a:t>a Tr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99072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Quierido Colin Hanrahan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y, yo fui a el Centro Cultural Palacio la Moneda. Hace mal tiempo. Nieva y hace frio. Lle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é un camera. Tomé picturas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 el museo, hay muchas picturas y peliculas de Chile. Fue muy interesante. Despues, Fui un partido de f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utbol. Los equipos son Colo-Colo y Rangers. Colo-Colo ganó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Con Todo mi afect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Colin Dun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003640" y="3733920"/>
            <a:ext cx="2768760" cy="4038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990720" y="373860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058400" cy="701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Dia Cua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219320"/>
            <a:ext cx="73915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Quierido Antoni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Hoy, yo visit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é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Parque Nacional Lauca. Tom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é mucha agua. Hay muchos animales y plantas en el parque. Mi animal favorita fui la alpaca. Yo no fui a la playa hoy, o esquié. Despues,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yo fui a la restaurante de el hotel. El pescado con arroz fui muy bien. Estoy muy cansado ahor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Un fuerte abraz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Col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67080" y="5105520"/>
            <a:ext cx="2419560" cy="188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705720" y="514368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304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6a6a"/>
                </a:solidFill>
                <a:latin typeface="Arial"/>
              </a:rPr>
              <a:t>Dia Cin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523880"/>
            <a:ext cx="5715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erido Nick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y, yo fui a el centro commercial. Tiene muchos pisos y tienas. Es muy grande. Yo comp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é una toalla playera y una gorra. No compré una camisa o esquis. Yo no quiero volver a casa. Es muy bonita aqu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Un braz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l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03:45Z</dcterms:created>
  <dc:creator>dunncol</dc:creator>
  <dc:description/>
  <dc:language>en-US</dc:language>
  <cp:lastModifiedBy>dunncol</cp:lastModifiedBy>
  <dcterms:modified xsi:type="dcterms:W3CDTF">2012-11-30T17:03:30Z</dcterms:modified>
  <cp:revision>9</cp:revision>
  <dc:subject/>
  <dc:title>Mi Vacacion a Portillo, Chile!</dc:title>
</cp:coreProperties>
</file>